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620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620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029AF-0A9F-47FE-9F9C-D6EB6FA625F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8A58-F6DD-4ABF-B500-E285F2EA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1C2-B18E-43FB-9908-93C70E97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270D-8AB6-4580-A814-27DDBB54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38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392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38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54AE-656A-46AB-932A-D183B483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BA84-7B23-4462-96CE-338084AD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C153-A394-4F1F-86A8-9E1F1D0F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9C51-D64F-475D-8EAE-5B38B992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40A3-F5AA-4FB1-83AE-F5D71776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7CC7-B72B-447B-A2E6-3ABF56C9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584280"/>
            <a:ext cx="73119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141F-0E30-4574-AEC4-BE9DC3D9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83B6-C3C5-4A91-8F9B-8F3ED511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926D-04F7-478E-86F5-45C366CC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3D61-EDFD-44AA-8851-077516D7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0600-D227-4F50-B846-07D3477B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B3A1-BDC2-4706-9893-DD1F6CA8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AEE6-D475-4CAD-A64D-E5B7E08F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38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392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38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FD2E-C0D9-4D5A-BA90-A2E660E3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F2B1-4017-4FA3-BBA7-EA27F3FF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D760-0ACF-4F36-BA0B-5E6FD107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F5B-9F7D-45C0-AF34-889140D1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584280"/>
            <a:ext cx="73119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85E3-FFBE-4D58-B157-5DEB9F75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03A-26D5-4694-998D-87CAF175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F80-E16D-4BC5-90FF-73E56882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F3E-7714-4F79-95BD-CE9D8947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68200" indent="-26820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84280" indent="-22320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26396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62504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625040" indent="-1803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625040" indent="-1803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7720" y="5943240"/>
            <a:ext cx="1901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7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DFE64-A3EB-474B-95B4-22C7068EAD1D}" type="slidenum">
              <a:rPr b="0" lang="en-GB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7720" y="5943240"/>
            <a:ext cx="1901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7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4D882B5-09C8-4548-9CCA-C4E165F8F2E0}" type="slidenum">
              <a:rPr b="0" lang="en-GB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5640" indent="-30564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65640" indent="-2541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44000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851480" indent="-2055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851480" indent="-2055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udoscript.com/articles/junit_framework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cc9900"/>
                </a:solidFill>
                <a:latin typeface="Tahoma"/>
              </a:rPr>
              <a:t>Junit Training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Chris Yeu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8</a:t>
            </a:r>
            <a:r>
              <a:rPr b="0" lang="en-GB" sz="3000" spc="-1" strike="noStrike" baseline="33000">
                <a:solidFill>
                  <a:srgbClr val="ffffff"/>
                </a:solidFill>
                <a:latin typeface="Tahoma"/>
                <a:ea typeface="MingLiU"/>
              </a:rPr>
              <a:t>th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 Sept, 200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380880"/>
            <a:ext cx="8001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&lt;JUnit Report&gt;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39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Other assertion metho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414440"/>
            <a:ext cx="754236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Equals(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Equals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is method is heavily overloaded: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arg1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arg2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must be both objects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both of the same primitive ty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r objects, uses your equals method,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you have defined it properly, as 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public boolean equals(Object o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-otherwise it uses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=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Same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Same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wo objects refer to the same object (using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==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Same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Same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wo objects do not refer to the same objec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Other assertion metho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23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ull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ul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he object is nul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Null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Nul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he object is nul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fail(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fai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uses the test to fail and throw an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ionFailed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seful as a result of a complex test, when the other assert methods aren’t quite what you w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at should I tes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things which could brea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should succeed quietl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print “Doing foo…done with foo!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Negative tests, exceptions and erro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hat shouldn’t I te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test set/get metho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test the compiler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Fixtur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andle common objects under test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etup() and tearDown() used to initialize and release common objec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d to insure there are no side effects between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nforce the test independence rule, test execution order is not guarunte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Execri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979640"/>
            <a:ext cx="7542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a testcase to test 3 method of java.util.ArrayLi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Suit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void main (String [] args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junit.textui.TestRunner.run (suite 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Test suite 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 = new TestSuite  ("AllTest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(new TestSuite (AllTests.class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 (StringTest.suite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AllTests () throws Exception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ssertTrue (suite != null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Runners 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Lightweight, quick quie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un from command lin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java StringT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....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Time: 0.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Tests run: 7,  Failures: 0,  Errors: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Runners - Sw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Run with java junit.swingui.TestRunn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38718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8200" y="584280"/>
            <a:ext cx="731340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Runners - Eclip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20720" y="1906560"/>
            <a:ext cx="7704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Introduc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JUnit is a regression testing framewor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ten by Erich Gamma and Kent Beck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d by developers to implement unit tests in Jav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Goal: Accelerate programming and increase the quality of cod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art of XUnit family (HTTPUnit, Cactus), CppUn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Automating testing (Ant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Junit Tas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target name="test" depends="compile-test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junit printsummary="yes" fork="ye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pathelement location="${build}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pathelement location="${build}/test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formatter usefile="yes" type="plain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test name="AllTests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juni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targ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Ant Batch mo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target name="batchtest" depends="compile-test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junit printsummary="yes" fork="yes" haltonfailure="no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pathelement location="${build.dir}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pathelement location="${build.dir}/test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formatter type="plain" usefile="yes"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batchtest fork="yes" todir="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fileset dir="${test.dir}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include name="**/*Test.java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files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batchtes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juni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ing for test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eparation of interface and implement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lows substitution of implementation to t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Factory patter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vides for abstraction of creation of implementations from the test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trategy patter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cause FactoryFinder dynamically resolves desired factory, implementations are plug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 for testing - Factori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Courier New"/>
              </a:rPr>
              <a:t>new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 only used in Factor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llows writing tests which can be used across multiple implementation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motes frequent testing by writing tests which work against objects without requiring extensive setu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extra-container” testing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 for testing - Mock Object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hen your implementation requires a resource which is unavailable for test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xternal system or database is simulat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nother use of Factory, the mock implementation stubs out and returns the anticipated results from a reques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Example of using Mock Objec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236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import org.jmock.*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PublisherTest extends MockObjectTestCase 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void testOneSubscriberReceivesAMessage() 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set up, subscriber can be any clas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Mock mockSubscriber = mock(Subscriber.class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 publisher = new Publisher(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.add((Subscriber) mockSubscriber.proxy()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final String message = "message"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expectation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mockSubscriber.expects(once()).method("receive").with( eq(message) 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execut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.publish(message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4000"/>
              </a:lnSpc>
              <a:buClr>
                <a:srgbClr val="ffffff"/>
              </a:buClr>
              <a:buFont typeface="Tahoma"/>
              <a:buChar char="•"/>
              <a:tabLst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Estrangelo Edessa"/>
                <a:ea typeface="Courier New"/>
              </a:rPr>
              <a:t>Of course, you can write mock yourself by implement interface with simple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90400"/>
            <a:ext cx="73152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ing with resources (EJB/DB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 fixtures to request resource connection via factory, could be no-op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 vm args or resource bundle to drive which factory is us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Data initialization/clearing handled by fixtures to preserve order independence of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306360"/>
            <a:ext cx="73137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velop testcase with database using abstract base clas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979640"/>
            <a:ext cx="8593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699ff"/>
                </a:solidFill>
                <a:latin typeface="Courier New"/>
              </a:rPr>
              <a:t>public abstract class DatabaseTestCase extends TestCase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final void setUp() throws SQLException, IO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resetData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DefaultDataManager.setupDefaultData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databaseSetUp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final void tearDown() throws SQL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this.databaseTearDown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this.getConnection().clos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void databaseSetUp() throws SQLException, IO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void databaseTearDown() throws SQL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ublic final Connection getConnection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return currentContext.connectio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In-container unit test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507960" y="1832040"/>
            <a:ext cx="7772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here are tools like cactus and StrutsTestC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xcellent for testing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EJ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Servlets, Filters, Taglib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Container-dependent frameworks, like Stru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380880"/>
            <a:ext cx="8001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Best Practic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295280"/>
            <a:ext cx="7772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parate production and tes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ut typically in the same pac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pile into separate trees, allowing deployment without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n’t forget OO techniques, base cla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est-drive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Write failing test fir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ing for Excep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 then F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 then Re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Where should I put my test fil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y test?  Why Juni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utomated tests prove featu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retain their value over time and allows others to prove the software still works (as tested)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onfidence, quality, slee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ffective, open source, integrat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Get to code sooner by writing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rite failing test firs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your test first, or at least at the same tim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 what can brea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reate new tests to show bugs then fix the bu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 driven development says write the test then make it pass by coding to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ing for Exception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ExpectException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1 = null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2 = new String("abcd");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1.toString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fail("Should see null pointer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catch(NullPointerException ex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then Fix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Bugs occasionally slip through (gasp!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a test first which demonstrates the error.  Obviously, this test is need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Now, fix the bug and watch the bar go green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Your tests assure the bug won’t reappea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then Refactor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Once the code is written you want to improve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hanges for performance, maintainability, readabilit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help you make sure you don’t break it while improving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mall change, test, small change, test..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82120"/>
            <a:ext cx="731376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ere should I put my test files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1833480"/>
            <a:ext cx="7559640" cy="48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You can place your tests in the same package and directory as the classes under test. For example: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r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.ja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Test.jav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n arguably better way is to place the tests in a separate parallel directory structure with package alignment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For exampl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r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.ja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Test.jav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These approaches allow the tests to access to all the public and package visible methods of the classes under tes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Resourc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.junit.or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.xprogramming.co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-106.ibm.com/developerworks/java/library/j-junitmail/index.htm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jakarta.apache.org/a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at is Juni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Test framework provides tools for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sser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unning tes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ggregating tests (suites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eporting resul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Philosophy always the sam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Let developers write test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Make it easy and painles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Test early and test oft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infected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t’s a Good Thing, no penicillin need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mmediate gratification with build iter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Start with “The Simplest Thing That Could Possibly Work”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terate by successive application of design pattern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Break the cycle of more pressure == fewer tes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educe code captiv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f others can test it, others can work on i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Mechanic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a subclass of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estCase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verride the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etUp() &amp; tearDown(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s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one or more public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estXXX(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xercise the object(s) under tes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e expected results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a static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uite()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actory 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reate a TestSuite containing all the tests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ptionally define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in()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un the TestCase in batch m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Mechanic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600200"/>
            <a:ext cx="712944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Simple Testca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class StringTest extends TestCase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rotected void setUp(){ /* run before */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rotected void tearDown(){ /* after */ 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SimpleAdd()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1 = new String(“abcd”)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2 = new String(“abcd”);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ssertTrue(“Strings not equal”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1.equals(s2))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junit.textui.TestRunner.run (suite 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cc9900"/>
                </a:solidFill>
                <a:latin typeface="Tahoma"/>
              </a:rPr>
              <a:t>Simple Testcase (cont.)</a:t>
            </a:r>
            <a:endParaRPr b="0" lang="en-US" sz="35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Test suite 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 = new TestSuite (”StringTest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tests = System.getProperty("test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if (tests == null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(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TestSuite(StringTest.class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else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okenizer tokens = 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okenizer(tests, ",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hile (tokens.hasMoreTokens()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(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est((String)tokens.nextToken()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return sui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JUNIT presentation</dc:title>
</cp:coreProperties>
</file>