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188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1268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3/11/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0044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9C7023D0-5219-4D9D-9CFB-526D8D210668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60400" y="497880"/>
            <a:ext cx="4400640" cy="2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   JavaOne 2003   |   Session 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0" y="5209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uarantees of fairness using synchronized key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use block structured loc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of synchronized on multiprocessors potentially poo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ation of encapsulation: the object’s lock is exposed to all cli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use the lock-try-finally-unlock patte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689120" y="4495680"/>
            <a:ext cx="5487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0">
              <a:lnSpc>
                <a:spcPct val="93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-lock variants acquire the lock only if it is available, returning true if lock was acquired, false other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1689120" y="3303360"/>
            <a:ext cx="5487840" cy="3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-162000">
              <a:lnSpc>
                <a:spcPct val="93000"/>
              </a:lnSpc>
              <a:spcBef>
                <a:spcPts val="425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able doesn't leave room for arguments, so it is normally implemented as an inner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R 166 headed by Doug Lea, creator of popular package util.concurr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which the new utilities are ba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presenting at JavaOne with Joe Bowb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green are discussed in the 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orange are referred to brief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ntion of anything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between three packages: j.u.c, j.u.c.locks, and j.u.c.at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reads accessing one instance may interfere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operations may be interleaved in such a way th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Int method returns the same value twice in a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1D3E-506D-420F-836B-A9C091978AC4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122960" y="3571560"/>
            <a:ext cx="1800360" cy="1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8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a.sun.com/javaone/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9679-87C2-4C1A-95BB-CE8ED0A2DDA3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AB72-2E72-49F3-A86D-B85EE6BEEC26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50920" y="5028840"/>
            <a:ext cx="45705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50000"/>
          </a:bodyPr>
          <a:p>
            <a:pPr indent="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70440" indent="-14184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713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7999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Fixed using synchro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1981080"/>
            <a:ext cx="784872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Sy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Better fix using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676520"/>
            <a:ext cx="7848720" cy="47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 finall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u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Lock lock = new ReentrantLock(tr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9625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lockInterruptibly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un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Lock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(boolean fair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ven better fix using Atomic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752480"/>
            <a:ext cx="777240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Atom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;;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ge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s = computeNext(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compareAndSet(s, nexts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AtomicInteger seed = new AtomicInteger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AtomicInte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44197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xtends Numbe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implements Serializ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(int initialCoun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mpareAndSe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int expect, int updat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weakCompareAndSet(int expect, int update)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get(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Set(int newValu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Add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addAndGet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In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De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incrementAndGe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decrementAndGet() 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atomic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9484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RollTask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ted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olls a 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e tasks 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ru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DieRollTask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50760" y="1736640"/>
            <a:ext cx="77724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TASK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instances of DieRoll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ROLL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die rolls per task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PseudoRandom r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final CountDownLatch startSignal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new CountDownLatch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untDownLatch doneSign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untDownLatch(NTASK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ieRollTask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startSigna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int i = 0; i &lt; NROLLS; ++i)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rnd.nextInt(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doneSignal.countDow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Coordinate tasks with 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untDownLat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threads are released when count become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(int initialCoun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long getCount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ordinate thread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50760" y="1736640"/>
            <a:ext cx="777240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Executor threadPool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.newFixedThreadPool(NTASK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trial(final int NROLL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PseudoRandom r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j = 0; j &lt; NTASKS; ++j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hreadPool.execute(new DieRollTask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give tasks time to wait for startSign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start = System.nanoTi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startSignal.countDown();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lease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doneSignal.await();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ait ‘til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ystem.nanoTime() – sta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Use Executor to run several DieRoll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ecu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0384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es submitted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Runnable task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s h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atic factory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static ExecutorService  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xtends Executo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FixedThreadPoo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int nThreads) {…}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many more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Decouple task submission from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38320" y="3166920"/>
            <a:ext cx="705960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iew concurrency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nt sever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asure and evaluat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600200"/>
            <a:ext cx="777240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PseudoRandomImp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llection&lt;PseudoRandomImpl&gt; imp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TRIALS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trials/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ROLLS 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die rolls/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PseudoRandomImpl impl : impl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nano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r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k = 0; k &lt; NTRIALS; ++k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nd = impl.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nos += trial(NROLLS, r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long avg = nanos / (NTRIALS * NROLL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rnd != null) report(rnd.getClass(), av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chine, one JVM, one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things that could affect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ing of fields o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e locality of generat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s for native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user and syste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ults on 3.2 GHz Pentium 4, -client (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15840" y="1600200"/>
          <a:ext cx="794412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600200"/>
                    <a:ext cx="794412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o Function: A function tha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emoriz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ts previou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ization for recursive funct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nted by Prof. Donald Michie, Univ. of Edin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Implement memo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concurren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 each result at mos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ConcurrentHashMap, Future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"Memoizer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752480"/>
            <a:ext cx="777240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A arg) throws 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Computable&lt;String, BigInteger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igInteger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ring arg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fter deep though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ew BigInteger("2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nction f = new Function(); //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f = Memoize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Generic computation and example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895480"/>
            <a:ext cx="76964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1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 new HashMap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1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V compute(A arg) throws...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able&lt;String, BigInteger&gt; 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Functio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Memoize1&lt;String, BigInteger&gt;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ching the computed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819520"/>
            <a:ext cx="7543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4876920"/>
            <a:ext cx="78483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50760" y="1736640"/>
            <a:ext cx="7772400" cy="32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2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2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No synchronization, but computes may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3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Future&lt;V&gt;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ConcurrentHashMap&lt;A,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llable&lt;V&gt; eval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ft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ft);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lapping computes less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allables and Fu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74280" cy="487656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all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invoked and returns a valu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olds result of asynchronous comput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ge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InterruptedException, Execution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get(long timeout, TimeUnit unit) throws IE, …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nce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boolean mayInterrupt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Cancelled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Done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Task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 Runnable Fut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s Future&lt;V&gt;, Runnable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tureTask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) {…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 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presenting asynchronous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1600200"/>
            <a:ext cx="7772400" cy="48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Memoize&lt;A, V&gt; implements Computable&lt;A, 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A, Future&lt;V&gt;&gt; cach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ConcurrentHashMap&lt;A, Future&lt;V&gt;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moize(Computable&lt;A, V&gt; c) { this.c = c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V&gt; f = cache.get(ar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llable&lt;V&gt; eval = new Callable&lt;V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Task&lt;V&gt; ft = new FutureTask&lt;V&gt;(ev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 = cache.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arg, f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 f = ft;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432240"/>
            <a:ext cx="65534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>
              <a:lnSpc>
                <a:spcPct val="98000"/>
              </a:lnSpc>
              <a:spcBef>
                <a:spcPts val="1437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im Peierls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 is a member of the JSR 166 Expert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Memo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676520"/>
            <a:ext cx="77724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 =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val = new Callable&lt;V&gt;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t = new FutureTask&lt;V&gt;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cache.putIfAbsent(arg, f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forms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d by Hans Mu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Reimplement 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more features with less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FutureTask,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Reimplementation of Swing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abstract V construc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 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ngWorker&lt;String&gt; sw = new SwingWorker&lt;String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String construct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ead.sleep(50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 "Done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get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"Working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form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8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752480"/>
            <a:ext cx="914400" cy="6098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4800600"/>
            <a:ext cx="914400" cy="6094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438280"/>
            <a:ext cx="0" cy="228600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6477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8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wingWorker Reimplem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883440"/>
            <a:ext cx="7848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task =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new FutureTask&lt;V&gt;(new Callable&lt;V&gt;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ublic V call() throws Exception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return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}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rotected void don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EventQueue.invokeLater(new Runnabl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public void run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  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 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abstract V construct() throws 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void finished {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ew Thread(task).start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task.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SwingWor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903320"/>
            <a:ext cx="7543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task =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new FutureTask&lt;V&gt;(new Callable&lt;V&gt;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ublic V call() throws Exception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}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rotected void don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ventQueue.invokeLat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new Runnabl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public void run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  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ll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construct</a:t>
            </a: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, then invoke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759320"/>
            <a:ext cx="7924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tract class SwingWorker&lt;V&gt; implements Future&lt;V&gt;,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run() {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run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 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long timeout, TimeUnit unit) throws ...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timeout, unit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ublic boolean cancel(boolean mayInterruptIfRunning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Cancelled(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Done()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s Future and Run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1677960"/>
            <a:ext cx="754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...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final Executor EXECUTOR = new Executor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public void execute(Runnable command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 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ew Thread(command).star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EXECU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Executor(Executor e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Executor getExecutor(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.execute(this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luggable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726560"/>
            <a:ext cx="75438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execution in cached thread poo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ngWorker s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utor 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CachedThreadPool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execution on a single thre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SingleThreadExecutor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cuto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cy utilities enable simple, powerfu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t with 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ggable exe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=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Fut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all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Runn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Also see </a:t>
            </a:r>
            <a:r>
              <a:rPr b="0" lang="en-GB" sz="2400" spc="-1" strike="noStrike">
                <a:solidFill>
                  <a:srgbClr val="cc6600"/>
                </a:solidFill>
                <a:latin typeface="Arial"/>
              </a:rPr>
              <a:t>http://foxtrot.sourceforge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eudoRa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o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ng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unded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Craw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with othe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approach for single producer / single consumer settings using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ch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1905120"/>
            <a:ext cx="777240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Bounded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E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Adds element to buffer, blocking unt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full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lement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moves element from buffer, blocks un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emp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752480"/>
            <a:ext cx="777240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oundedBufferUsingCondition&lt;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oundedBuffer&lt;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 lock = new Reentrant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Condition notFull 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Condition notEmpty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[] items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putIndex, takeIndex, 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put(E element) throws I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while (size == items.length) notFul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tems[putIndex++] = element; ++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putIndex == items.length) putIndex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otEmpty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              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to be continu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Con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tion analogous to Objec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/notify/notify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Uninterruptibly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igna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signalAll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Conditions with a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Conditio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Multiple wait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1752480"/>
            <a:ext cx="777240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continu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E take() throws Interrupted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while (size == 0) notEmpty.awa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element = items[takeIndex++]; --siz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takeIndex == items.length) takeInde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notFull.signa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, cont’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488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using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1905120"/>
            <a:ext cx="777240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 webCrawler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BlockingQueue&lt;URL&gt; rq = …; // </a:t>
            </a:r>
            <a:r>
              <a:rPr b="1" i="1" lang="en-GB" sz="2000" spc="-1" strike="noStrike">
                <a:solidFill>
                  <a:srgbClr val="cc6600"/>
                </a:solidFill>
                <a:latin typeface="Courier New"/>
              </a:rPr>
              <a:t>result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&lt;?&gt; crawl =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.craw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artUrl,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!foundEnough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found =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.poll(timeout, uni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ound == null)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cess(fou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rawl.cance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tru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&lt;E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xtends Queue&lt;E&gt;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add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offer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o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, 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o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long timeout, TimeUnit unit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put(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take(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remainingCapacit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drainTo(Collection&lt;? super E&gt; elements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int drainTo(Collection&lt;? Super E&gt; elements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int maxElements);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 version of java.util.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1828800"/>
            <a:ext cx="777240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WebCrawle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ervice poo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CachedThreadPoo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?&gt; crawl(URL startUrl, BlockingQueue&lt;URL&gt; rq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submi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startUrl, rq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Gets URL contents and parses list of URL 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 from them; may block indefini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ist&lt;URL&gt; fetchLinks(URL url) throws IOException {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ed using cached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1752480"/>
            <a:ext cx="777240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ass CrawlTask implements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seen.add(url); !done(); url = poll(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6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rl, timeout, unit)) retur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 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 skip over </a:t>
            </a:r>
            <a:r>
              <a:rPr b="1" i="1" lang="en-GB" sz="16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, couldn’t get its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void add(URL u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seen.contains(u)) { seen.add(u)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olean done() { return url == nul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poll() { return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po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url = startUr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Set&lt;URL&gt; seen = new HashSet&lt;URL&gt;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Queue&lt;URL&gt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 = new PriorityQueue&lt;URL&gt;(…, searchOrd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cy Ut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217520"/>
            <a:ext cx="3886200" cy="518184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ec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Scheduled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al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Scheduled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la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Scheduled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Exec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Future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or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Linked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ed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Arra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nchronous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Priorit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ay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143000"/>
            <a:ext cx="39621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080" bIns="46080" anchor="t">
            <a:normAutofit/>
          </a:bodyPr>
          <a:p>
            <a:pPr marL="341280" indent="-341280">
              <a:lnSpc>
                <a:spcPct val="6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64040" y="1218960"/>
            <a:ext cx="38988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current Coll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curren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Hash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yOnWriteArray{List,Set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nchroniz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Ex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clic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Time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QueuedSynchron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Reentrant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ntrant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Atomic[Typ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FieldUpd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{Markable,Stampable}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752480"/>
            <a:ext cx="77724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seen.put(url, true); !done(); url = poll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execute(new Runnable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, timeout, unit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{ done = true; return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catch (IOException e) { /* skip *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 done() { return done || url == null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latile boolean done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continued on next slid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1752480"/>
            <a:ext cx="7772400" cy="43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 pq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riority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(CAP, searchOrd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 see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n.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, true) =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pol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=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oll(timeout, uni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Priority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74280" cy="18288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&lt;E&gt; 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lockingQueue&lt;E&g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(int initialCapacity,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                  Comparator&lt;? super E&gt; comp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Queue with least element availabl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ncurrentM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873920" cy="22096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&lt;K,V&gt;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tends Map&lt;K,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 replac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place(K key, V oldValue, V new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mov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get-and-maybe-set methods for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1752480"/>
            <a:ext cx="77724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PeriodicHost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String h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 hq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Linked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 // called period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url =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pol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url != null)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1752480"/>
            <a:ext cx="7772400" cy="43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inal ScheduledExecutorService sche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ScheduledThreadPool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ncurrentMap&lt;String,PeriodicHostTask&gt; host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ncurrentHashMap&lt;String,PeriodicHostTask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seen.putIfAbsent(url, true) != null) retur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hostTask = new PeriodicHostTas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existing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hosts.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.getHost(), hostTas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existing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 = hostTas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sched.scheduleWithFixedDela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stTask, 0, 1, TimeUnit.SECOND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.add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ScheduledExecutor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dExecutorService </a:t>
            </a:r>
            <a:br>
              <a:rPr sz="1400"/>
            </a:b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xtends ExecutorServic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V&gt; ScheduledFuture&lt;V&gt; schedule(Callable&lt;V&gt; c,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(Runnable r,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AtFixedRate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long period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WithFixedDelay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iodic and one-shot delaye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use low level constructs when more appropriate high level ones exist,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Blocking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or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chang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 in producer/consumer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ea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8000"/>
                </a:solidFill>
                <a:latin typeface="Courier New"/>
              </a:rPr>
              <a:t>new Thread(runnable).star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suring performance of concurrent programs is hard, but must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simple examples first, but remember that they won’t necessaril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skeptical; instrument as much as possible to confirm that your program is really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I docs for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iger download or on Su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g Lea's concurrency-interest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http://gee.cs.oswego.edu/dl/concurrent/dist/doc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t Programming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st Word in Swing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http://java.sun.com/products/jfc/tsc/articles/threads/threads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rticle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http://java.sun.com/products/jfc/tsc/articl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72B6-70BE-493D-BE72-E9C6F4AEFDFE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ve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ss modifiers omitted unless 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ruptedException abbreviated as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interrupt handling omitted for brevity, bu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ve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mportant in real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rrelevant methods, fields, and arguments elided with “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emental Mate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ing thre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14400" y="1569960"/>
          <a:ext cx="7924680" cy="49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9960"/>
                    <a:ext cx="792468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e hand-rolled to librar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838080" y="1752480"/>
          <a:ext cx="7772400" cy="449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77240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not be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de testing methodology (e.g., no warm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results obtained us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–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i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gnificant, a possible explan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tSpot not caching final fields across cod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rary implementations have been tu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al: Don’t reinvent the whe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ArrayBlockingQueue faster than hand-roll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50760" y="1600200"/>
            <a:ext cx="777240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Data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buf =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,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buf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DataBuffer&gt; exch = new Exchang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ebu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Into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isFu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) 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fbuf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From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isEmpty())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lternative for 1 producer / 1 consum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chan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exchange between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1828800"/>
            <a:ext cx="77724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T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) throws IE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, long timeout, TimeUnit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94844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ne thread p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HostTasks after pol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Scheduled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nce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approach using asynchronous I/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s context switch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java.nio.channels.Selec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rapped as a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CompletionServ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List&lt;URL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tch requests return immediat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parate task polls completion service for next ready list of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94844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 in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thei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057400"/>
            <a:ext cx="77724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turn pseudorandom int in range [0,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Int(int 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057400"/>
            <a:ext cx="777240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ive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k Greco</cp:lastModifiedBy>
  <dcterms:modified xsi:type="dcterms:W3CDTF">2004-06-23T03:26:29Z</dcterms:modified>
  <cp:revision>1413</cp:revision>
  <dc:subject/>
  <dc:title>2004 JavaOneSM Conference Speaker Template</dc:title>
</cp:coreProperties>
</file>