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A1FE-4D55-4C89-A937-4832F7E3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63EE-97DC-4A68-B9D3-54C8014D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25C5-3EBE-49AC-819C-9E86F54DF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9590-151C-40B4-AA95-6EC447B97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9D58-ECC3-443F-B906-D2A18FE56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D77A-F2F8-4897-8E01-5C1BD2E6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2DDC-77E0-4A4F-AB98-F7BD8154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FF35-681F-4907-BCE0-D8DEC085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D599-BDB9-4C0C-84D9-43713A77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4EE0-3226-45B0-B890-32DF2950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CA83-F0AF-4E14-B7E6-D40683CF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A8B3-DFA5-4B4D-8A5D-7E3435B8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8F44-D782-4F90-B45D-B20BD39C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478D-D16C-49B6-84EC-7C2D7383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B5AF-728E-4893-BA4F-E964AE69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FB1A-3033-4795-B38C-FAC146C72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2285-C3E6-463A-8B88-6BCC21CE8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520C-52F6-4EA6-9011-88BAC978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304A-B8AB-4694-9994-DD19BF74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FB93-E544-442F-BC09-7B09B4F7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BE8F-BE65-42C9-8342-01681BB1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FA4E-CCED-4156-B47D-DA7F8FB2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A592-F603-475C-AA92-9EB0BD11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C32D-F43E-4FB0-A877-BFCF6368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20280" y="-418320"/>
            <a:ext cx="2669400" cy="7673760"/>
            <a:chOff x="-620280" y="-418320"/>
            <a:chExt cx="2669400" cy="7673760"/>
          </a:xfrm>
        </p:grpSpPr>
        <p:sp>
          <p:nvSpPr>
            <p:cNvPr id="1" name=""/>
            <p:cNvSpPr/>
            <p:nvPr/>
          </p:nvSpPr>
          <p:spPr>
            <a:xfrm rot="2700000">
              <a:off x="-320760" y="-11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rot="2700000">
              <a:off x="-321120" y="-1191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2700000">
              <a:off x="-312480" y="-1116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700000">
              <a:off x="-308520" y="-1137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2700000">
              <a:off x="52920" y="2581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700000">
              <a:off x="-320040" y="1129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700000">
              <a:off x="-321480" y="1121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2700000">
              <a:off x="-312480" y="1129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700000">
              <a:off x="-308520" y="1127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2700000">
              <a:off x="52920" y="1504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2700000">
              <a:off x="-320040" y="2380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2700000">
              <a:off x="-320040" y="363636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rot="2700000">
              <a:off x="-321480" y="362844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rot="2700000">
              <a:off x="-312480" y="36360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rot="2700000">
              <a:off x="-308520" y="363420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2700000">
              <a:off x="52920" y="4006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2700000">
              <a:off x="-320760" y="488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8900000">
              <a:off x="290520" y="51660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8900000">
              <a:off x="281520" y="515880"/>
              <a:ext cx="144432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8900000">
              <a:off x="285840" y="51588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8900000">
              <a:off x="281160" y="51696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8900000">
              <a:off x="688680" y="8960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8900000">
              <a:off x="300240" y="1758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8900000">
              <a:off x="291240" y="175752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8900000">
              <a:off x="295200" y="1757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8900000">
              <a:off x="285840" y="1758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8900000">
              <a:off x="687960" y="2137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rot="2700000">
              <a:off x="-321480" y="2372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rot="2700000">
              <a:off x="-312480" y="2380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2700000">
              <a:off x="-303840" y="2378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2700000">
              <a:off x="52920" y="2755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rot="18900000">
              <a:off x="304920" y="300888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rot="18900000">
              <a:off x="305280" y="3008880"/>
              <a:ext cx="144432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rot="18900000">
              <a:off x="300600" y="3008160"/>
              <a:ext cx="144324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rot="18900000">
              <a:off x="290520" y="3009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8900000">
              <a:off x="693000" y="3388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8900000">
              <a:off x="300240" y="426492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8900000">
              <a:off x="291240" y="426420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8900000">
              <a:off x="295200" y="426384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8900000">
              <a:off x="290520" y="426492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rot="18900000">
              <a:off x="687960" y="464436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2700000">
              <a:off x="-321120" y="48747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2700000">
              <a:off x="-312480" y="4882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2700000">
              <a:off x="-308520" y="48801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700000">
              <a:off x="52920" y="5257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8900000">
              <a:off x="300240" y="5511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8900000">
              <a:off x="291240" y="5510880"/>
              <a:ext cx="144360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8900000">
              <a:off x="295200" y="5510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8900000">
              <a:off x="285840" y="5511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8900000">
              <a:off x="688680" y="58903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AB42-0D17-4320-944B-2C5E0539F11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2489760" y="-1479240"/>
            <a:ext cx="14158800" cy="14128560"/>
            <a:chOff x="-2489760" y="-1479240"/>
            <a:chExt cx="14158800" cy="14128560"/>
          </a:xfrm>
        </p:grpSpPr>
        <p:sp>
          <p:nvSpPr>
            <p:cNvPr id="93" name=""/>
            <p:cNvSpPr/>
            <p:nvPr/>
          </p:nvSpPr>
          <p:spPr>
            <a:xfrm rot="18900000">
              <a:off x="-402480" y="635040"/>
              <a:ext cx="9953280" cy="99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1097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1097" swAng="5400000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8900000">
              <a:off x="-414360" y="610560"/>
              <a:ext cx="9954000" cy="99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4"/>
                  </a:moveTo>
                  <a:arcTo wR="10800" hR="10800" stAng="-4624598" swAng="37611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4"/>
                  </a:moveTo>
                  <a:arcTo wR="10800" hR="10800" stAng="-4624598" swAng="3761142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8900000">
              <a:off x="-428400" y="608760"/>
              <a:ext cx="9950400" cy="99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0" y="1180"/>
                  </a:moveTo>
                  <a:arcTo wR="10800" hR="10800" stAng="-3777650" swAng="2062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0" y="1180"/>
                  </a:moveTo>
                  <a:arcTo wR="10800" hR="10800" stAng="-3777650" swAng="2062072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8900000">
              <a:off x="-345600" y="582480"/>
              <a:ext cx="9954000" cy="9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69821" swAng="821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69821" swAng="821637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8900000">
              <a:off x="-6120" y="1043280"/>
              <a:ext cx="920736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8900000">
              <a:off x="-17280" y="1020240"/>
              <a:ext cx="9205560" cy="9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7" y="274"/>
                  </a:moveTo>
                  <a:arcTo wR="10800" hR="10800" stAng="-4624232" swAng="37616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7" y="274"/>
                  </a:moveTo>
                  <a:arcTo wR="10800" hR="10800" stAng="-4624232" swAng="3761643"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8900000">
              <a:off x="-8640" y="1002960"/>
              <a:ext cx="920700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2" y="1181"/>
                  </a:moveTo>
                  <a:arcTo wR="10800" hR="10800" stAng="-3776942" swAng="20626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2" y="1181"/>
                  </a:moveTo>
                  <a:arcTo wR="10800" hR="10800" stAng="-3776942" swAng="2062679"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8900000">
              <a:off x="47520" y="978840"/>
              <a:ext cx="9204840" cy="920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70024" swAng="821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70024" swAng="821920"/>
                </a:path>
              </a:pathLst>
            </a:cu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8900000">
              <a:off x="2535120" y="3738240"/>
              <a:ext cx="4075920" cy="40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C88F-5E61-4B75-89AB-71E29CD9313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33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Optimizing Pixomatic For Modern Processor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49064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ichael Abras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AD Game Tools, In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From U,V To A Texture Addres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1828800"/>
            <a:ext cx="3047760" cy="609480"/>
          </a:xfrm>
          <a:prstGeom prst="rect">
            <a:avLst/>
          </a:prstGeom>
          <a:solidFill>
            <a:srgbClr val="99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00VV.vvvv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52880" y="1828800"/>
            <a:ext cx="304812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UU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uuuuuu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8580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894800" y="2437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7324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9876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4176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2264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20960" y="3733920"/>
            <a:ext cx="3047760" cy="60948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77120" y="3733920"/>
            <a:ext cx="153972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UU.uu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164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910640" y="434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8908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1460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5760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3848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2136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0224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2136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0224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666880" y="2438280"/>
            <a:ext cx="0" cy="533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2971800"/>
            <a:ext cx="31244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2971800"/>
            <a:ext cx="0" cy="76212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43600" y="2438280"/>
            <a:ext cx="0" cy="533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43600" y="2971800"/>
            <a:ext cx="13716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15200" y="2971800"/>
            <a:ext cx="0" cy="76212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3733920"/>
            <a:ext cx="1524240" cy="609480"/>
          </a:xfrm>
          <a:prstGeom prst="rect">
            <a:avLst/>
          </a:prstGeom>
          <a:solidFill>
            <a:srgbClr val="99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00VV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20960" y="5562720"/>
            <a:ext cx="3047760" cy="60948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52880" y="5562720"/>
            <a:ext cx="306396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0 0 0 0VVUU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164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10640" y="617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8908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1460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5760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93848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2136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0224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4343400"/>
            <a:ext cx="0" cy="533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77120" y="4876920"/>
            <a:ext cx="76176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238880" y="4876920"/>
            <a:ext cx="0" cy="68580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23640" y="3047040"/>
            <a:ext cx="182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SHUF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15880" y="4906080"/>
            <a:ext cx="144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SR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Welded Code Sample 1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81080" y="1597680"/>
            <a:ext cx="670572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LoopTop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dd              esp,dword ptr [_RotatedFixed16ZXStep]       ; stepp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dc              esp,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ddsw        mm2,mmword ptr [_argb7x_GouraudXStep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ddd          mm0,mmword ptr _Spans+20h[esi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mp             sp,word ptr [ebx+ecx*2]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         ; z buffer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ja                 LoopBotto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             word ptr [ebx+ecx*2],s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nd            mm0,mmword ptr [_TexMap]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 ; texture mapp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shufw        mm5,mm0,0D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srld            mm5,mmword ptr [_TexMap+28h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d           eax,mm5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d           mm7,dword ptr [edx+eax*4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q           mm6,mm2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; Gouraud shad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unpcklbw  mm7,dword ptr [_MMX_0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sllw           mm7,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mulhw       mm7,mm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ckuswb    mm7,mm7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                ; pixel pack/writ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d           dword ptr [edi+ecx*4],mm7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LoopBottom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inc              ecx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                        ; loop contro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jne              LoopTo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Welded Code Sample 2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3880" y="1829520"/>
            <a:ext cx="35053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LoopTop: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dd         esp,dword ptr [_RotatedFixed16ZXStep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dc         esp,0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sw      mm2,mmword ptr [_argb7x_GouraudXStep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d       mm0,mmword ptr _Spans+20h[esi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cmp         sp,word ptr [ebx+ecx*2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ja          LoopBottom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         word ptr [ebx+ecx*2],sp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nd        mm0,mmword ptr [_TexMap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hufw      mm6,mm0,0Dh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ld       mm6,mmword ptr [_TexMap+2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eax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mm7,dword ptr [edx+eax*4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lld       mm6,mmword ptr [_TexMap+2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dd         eax,dword ptr [_TexMap+0F4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nd         eax,dword ptr [_TexMap+0F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w       mm6,mmword ptr [_TexMap+40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ld       mm6,mmword ptr [_TexMap+2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q        mm4,mm0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ld       mm4,mmword ptr [_TexMap+4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nd        mm4,mmword ptr [_MMX_0x003F003F003F003F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mm5,dword ptr [edx+eax*4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eax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7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mm6,dword ptr [edx+eax*4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5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hufw      mm4,mm4,0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dd         eax,dword ptr [_TexMap+0F4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2680" y="1813680"/>
            <a:ext cx="26971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nd         eax,dword ptr [_TexMap+0F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6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q        mmword ptr [_MMX_UFrac],mm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mm4,dword ptr [edx+eax*4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4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ubw       mm6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ubw       mm4,mm5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ubw       mm5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ubw       mm4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lw      mm6,mmword ptr [_MMX_UFrac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aw       mm6,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lw      mm4,mmword ptr [_MMX_UFrac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w       mm6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hufw      mm7,mm0,0AAh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lw       mm7,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llw       mm5,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hw      mm4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hw      mm7,mm5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w       mm6,mm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w       mm7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ckuswb    mm7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q        mm6,mm2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7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llw       mm7,1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hw      mm7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ckuswb    mm7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dword ptr [edi+ecx*4]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LoopBottom: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inc         ecx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jne         LoopTop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Out Of Order Processing is Cool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 need to swizzle textu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 need to overlap divid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tra moves are often fre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Try Stuff And See What Stick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oop Unrolling Is Rarely A Win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nrolling once sometimes help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Branch Prediction, And Unexpected Implications Thereof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inear Search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35800" y="578160"/>
            <a:ext cx="2582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 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 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3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inear Branching Pattern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3520" y="202608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s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99480" y="3748320"/>
            <a:ext cx="216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s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77880" y="1965240"/>
            <a:ext cx="216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s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79320" y="3717720"/>
            <a:ext cx="204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Binary Search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65480" y="959760"/>
            <a:ext cx="2336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3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Assume Nothing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inear Versus Binary Search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447920" y="1828800"/>
          <a:ext cx="7326360" cy="446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828800"/>
                    <a:ext cx="7326360" cy="44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Help The Data Cache Work Efficiently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5244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undreds of cycles per miss to mem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always hidden by caching and out-of-order process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n’t chase sparse point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void sparse accesses to large data structures in gener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SSE2 Didn’t Help Us Much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 integer ops, half the speed of MMX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ubled parallelism didn’t help 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quires yet another code pa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 doubles, only 2-way SIM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Small Changes -&gt; Huge Effect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uble alignment on sta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64K alias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Hyperthreading Didn’t Help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a good fit for a standard 3D pipel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tentially helpful for deferred render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Questions?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Pixomatic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9246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X86 software render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indows and Linux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gh-end DX7-class feature 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cept cubemap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w-end DX7-class performa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ak P4/3GHz performance, 1 texture+Gourau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33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10 megapixels/seco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33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.86 million triangles/seco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A DX7-Class Rasterizer Turned Out To Be Possible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Appropriate Technology In Appropriate Place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5244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stly 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line ASM in key plac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ustom preprocess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lding - code compiled on the f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Pixel Pipeline Register Allocation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2209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AX - scratch regis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BX - z-buffer pixel addr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CX - loop cou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X - texture 0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I - span-list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I - pixel-buffer pixel addr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BP - texture 0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P - 1/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0 - texture 0 coordinates (u0, v0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1 - texture 1 coordinates (u1, v1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2 - Gouraud col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3 - specular col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4-MM7 - scratch regist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Span Generation Register Allocation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52440" y="2209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AX - scratch register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BX - -scanline leng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CX - 1/z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X - scratch regis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I - pixel-buffer pixel addres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BP - span list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I - z-buffer pixel addres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P - stack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0 - previous span (u0, v0)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0 - 1/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1 - previous span (u1, v1)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1 - u0,v0,u1,v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2 - Gouraud GB component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2 - 1/w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3 - Gouraud AR component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3 - left edge 1/w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4 - specular GB component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4 - left edge 1/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3-MM7 - scratch register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5 - left edg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6-XMM7 - scratch register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    u0, v0, u1, v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MMX Pixel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05120" y="2438280"/>
            <a:ext cx="1523880" cy="533520"/>
          </a:xfrm>
          <a:prstGeom prst="rect">
            <a:avLst/>
          </a:prstGeom>
          <a:solidFill>
            <a:srgbClr val="80808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77120" y="2438280"/>
            <a:ext cx="1523880" cy="53352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2438280"/>
            <a:ext cx="1524240" cy="53352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2438280"/>
            <a:ext cx="1523880" cy="5335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85800" y="2970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894800" y="297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26640" y="3808080"/>
            <a:ext cx="444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ach field has 8 integral bits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number of fractional bi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aries throughout the pipeli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Texture Mapping Code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8480" y="2514960"/>
            <a:ext cx="603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n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0,[WrapUV0Mask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shufw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5,mm0,0D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srl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5,[WrapUV0RightShift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v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ax,mm5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v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7,[edx+eax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d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0,[UV0Step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00:03:54Z</dcterms:created>
  <dc:creator>me</dc:creator>
  <dc:description/>
  <dc:language>en-US</dc:language>
  <cp:lastModifiedBy>TomF</cp:lastModifiedBy>
  <cp:lastPrinted>2004-03-15T23:34:27Z</cp:lastPrinted>
  <dcterms:modified xsi:type="dcterms:W3CDTF">2007-02-03T01:01:39Z</dcterms:modified>
  <cp:revision>99</cp:revision>
  <dc:subject/>
  <dc:title>Optimizing Pixomatic For Modern Processors</dc:title>
</cp:coreProperties>
</file>