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6984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4968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036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6984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4968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90360" y="60912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6984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4968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9036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6984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4968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0360" y="60912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004160" y="64990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Jump to first pag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238960" y="15228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C5D8-BEF3-43DF-B577-C2B57FE82A60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1722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Introduction to FIX </a:t>
            </a:r>
            <a:br>
              <a:rPr sz="900"/>
            </a:b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Copyright© 2004 Jim Northey and  Jordan &amp; Jordan 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4" name="">
            <a:hlinkClick r:id="" action="ppaction://hlinkshowjump?jump=firstslide"/>
          </p:cNvPr>
          <p:cNvSpPr/>
          <p:nvPr/>
        </p:nvSpPr>
        <p:spPr>
          <a:xfrm>
            <a:off x="7004160" y="64990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Jump to first pag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617220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Introduction to FIX </a:t>
            </a:r>
            <a:br>
              <a:rPr sz="900"/>
            </a:b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Copyright© 2004 Jim Northey and  Jordan &amp; Jordan 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" y="5334120"/>
            <a:ext cx="1905120" cy="714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andj.com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fix.btobits.com/" TargetMode="External"/><Relationship Id="rId2" Type="http://schemas.openxmlformats.org/officeDocument/2006/relationships/hyperlink" Target="http://fix.btobits.com/" TargetMode="External"/><Relationship Id="rId3" Type="http://schemas.openxmlformats.org/officeDocument/2006/relationships/hyperlink" Target="http://www.btobits.com/" TargetMode="External"/><Relationship Id="rId4" Type="http://schemas.openxmlformats.org/officeDocument/2006/relationships/hyperlink" Target="http://www.btobits.com/" TargetMode="External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124080" y="3962520"/>
            <a:ext cx="3044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Jim Northe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9966"/>
                </a:solidFill>
                <a:uFillTx/>
                <a:latin typeface="Arial"/>
                <a:hlinkClick r:id="rId1"/>
              </a:rPr>
              <a:t>Jordan and Jorda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Introduction to FIX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he FIX Session Layer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Session Level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nitiating a session (Logon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Heartbe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 Sequenc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 Valida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nding a session (Logout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Initiating a Session (Logon MsgType=A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uy side firm initiates (the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Initiator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) a connection to a Sell side (the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Acceptor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) firm using the LOGON Session Level Message MsgType[35]=“A”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8=FIX.4.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=9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5=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9=BOFASEC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6=DFIX20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0=MSO:MSO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7=TEST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4=106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3=N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2=20010822-13:06:4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8=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8=3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=021^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Nominal Login Scenario Start of Day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97760" y="1522800"/>
            <a:ext cx="408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,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428640" y="3581280"/>
            <a:ext cx="43290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29240" y="327528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,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2209680"/>
            <a:ext cx="2895480" cy="838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Valid SenderCompI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ncoming Sequence Number matches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05320" y="3962520"/>
            <a:ext cx="2895480" cy="5331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ncoming Sequence Number matches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2670120"/>
            <a:ext cx="1752840" cy="733320"/>
          </a:xfrm>
          <a:prstGeom prst="borderCallout1">
            <a:avLst>
              <a:gd name="adj1" fmla="val 18750"/>
              <a:gd name="adj2" fmla="val -8333"/>
              <a:gd name="adj3" fmla="val 99555"/>
              <a:gd name="adj4" fmla="val 200532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his is the</a:t>
            </a: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Logon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cknowledgem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9880" y="51055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95680" y="4724280"/>
            <a:ext cx="2971800" cy="609840"/>
          </a:xfrm>
          <a:prstGeom prst="wedgeEllipseCallout">
            <a:avLst>
              <a:gd name="adj1" fmla="val -40171"/>
              <a:gd name="adj2" fmla="val 10781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We have a FIX Session Established!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Sequencing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FIX Session guarantees that messages are delivered in the order in which they are s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 FIX Session can be defined a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a bi-directional stream of ordered messages between two parties within a continuous sequence number series”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ach FIX Engines is expected to keep track of two sequence numb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he Incoming Sequence Number expected on inbound messages received from the counterparty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he Outgoing Sequence Number to be sent to the counterparty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Sequencing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o what happens if the sequence numbers are not in order?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X Provides messages for recovery of lost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Provides for delivery of lost messag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Provides for a way to resynchronize sequence numbers between engin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Resend Request (MsgType=2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to request the counterparty to resend a set of FIX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ell the counterparty the range of messages that you did not receiv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BeginSeqNo (tag 7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EndSeqNo (tag 16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xceptional Login Scenario - Sequence Number to High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Accep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22240" y="1522800"/>
            <a:ext cx="40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3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414240" y="3581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29240" y="327528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2209680"/>
            <a:ext cx="2895480" cy="838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Valid SenderCompI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quence Number &gt;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05320" y="3809880"/>
            <a:ext cx="289548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ncoming Sequence Number matches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0520" y="2968560"/>
            <a:ext cx="1752480" cy="733320"/>
          </a:xfrm>
          <a:prstGeom prst="borderCallout1">
            <a:avLst>
              <a:gd name="adj1" fmla="val 18750"/>
              <a:gd name="adj2" fmla="val -8333"/>
              <a:gd name="adj3" fmla="val 58828"/>
              <a:gd name="adj4" fmla="val 205685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his is the</a:t>
            </a: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Logon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cknowledgem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772400" y="2362320"/>
            <a:ext cx="10666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Incoming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Expected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414240" y="4724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19360" y="4494240"/>
            <a:ext cx="426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Resend Reques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BeginSeqNo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EndSeqNo= 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54864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83760" y="5485320"/>
            <a:ext cx="320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Resends messages or sends a gap fill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xceptional Login Scenario - Sequence Number to Low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Accep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22240" y="1522800"/>
            <a:ext cx="40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414240" y="3581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29240" y="3274920"/>
            <a:ext cx="3872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Text = Incoming Sequence Number &lt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Expected = 5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2209680"/>
            <a:ext cx="2895480" cy="838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Valid SenderCompI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quence Number &lt;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0520" y="2968560"/>
            <a:ext cx="1752480" cy="733320"/>
          </a:xfrm>
          <a:prstGeom prst="borderCallout1">
            <a:avLst>
              <a:gd name="adj1" fmla="val 18750"/>
              <a:gd name="adj2" fmla="val -8333"/>
              <a:gd name="adj3" fmla="val 58828"/>
              <a:gd name="adj4" fmla="val 205685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Why do we stop the Session from being established?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772400" y="2362320"/>
            <a:ext cx="10666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Incoming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Expected=5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73200" y="4723200"/>
            <a:ext cx="24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Disconnect by closing socke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809880" y="4648320"/>
            <a:ext cx="914400" cy="9144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29000" y="51055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Sequence Reset (MsgType=4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n order to reduce unnecessary communication, FIX permits firms to skip or gap fill over administrative messages (such as heartbeats and test requests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is is done using the Sequence Reset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GapFillFlag (tag 123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NewSeqNo (tag 36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Heartbeat (MsgType=0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FIX Session is kept alive by both sides sending heartbeats to the oth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8=FIX.4.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=0072^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35=0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9=GLTRADE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6=DFIX20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4=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2=20010822-13:53:28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=124^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FIX Session Layer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ssion Level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gi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 Sequenc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Keeping the session alive – heart beat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gou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Heartbeating lets each side know the connection is active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0" name=""/>
          <p:cNvSpPr/>
          <p:nvPr/>
        </p:nvSpPr>
        <p:spPr>
          <a:xfrm>
            <a:off x="243828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81680" y="1371600"/>
            <a:ext cx="106704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Accep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401920" y="2818080"/>
            <a:ext cx="440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Heartbeat 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24240" y="54100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06320" y="5104080"/>
            <a:ext cx="411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EO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2423880" y="23623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38520" y="205632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660040" y="1599120"/>
            <a:ext cx="40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438280" y="31240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437920" y="38862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68760" y="358020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Heartbeat 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71040" y="4266360"/>
            <a:ext cx="7898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How often do we heartbeat a FIX connection?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nfigurab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egotiated” at Logon tim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HeartBtInt (tag 108) Note same value used by both sid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Test Request (MsgType=1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ither party on the FIX connection can send a Test Request message at any time during the FIX Sess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recipient of a Test Request message must respond with a Heartbeat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Test Request contains a required TestReqID[112] fiel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Heartbeat response message must contain the TestReqID[112] of the Test Reques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Normal Test Request Scenario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"/>
          <p:cNvSpPr/>
          <p:nvPr/>
        </p:nvSpPr>
        <p:spPr>
          <a:xfrm>
            <a:off x="2362320" y="2438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95280" y="1905120"/>
            <a:ext cx="1067040" cy="144756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981080"/>
            <a:ext cx="1066680" cy="152424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50440" y="2132640"/>
            <a:ext cx="41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MsgType=1, TestReqID=“AnyString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361960" y="31240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56440" y="2818440"/>
            <a:ext cx="389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Heartbeat MsgType=0, TestReqID=“AnyString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xception Test Request Scenario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5" name=""/>
          <p:cNvSpPr/>
          <p:nvPr/>
        </p:nvSpPr>
        <p:spPr>
          <a:xfrm>
            <a:off x="2590920" y="22096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1676520"/>
            <a:ext cx="1067040" cy="34290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34320" y="1676520"/>
            <a:ext cx="1066680" cy="33526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79040" y="1904040"/>
            <a:ext cx="41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MsgType=1, TestReqID=“AnyString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34920" y="4494600"/>
            <a:ext cx="24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Disconnect by closing socke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90920" y="43434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38440" y="4037400"/>
            <a:ext cx="408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5 Text=“Test Request Timeout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5334120" y="4419720"/>
            <a:ext cx="914400" cy="9144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0920" y="48769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2590920"/>
            <a:ext cx="1600200" cy="12189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No Response from recipient for 2 X Heartbeat Interval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Validation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X Engines validate that messages are properly formed and will reject the message using a Session Level REJECT message if the message is invali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Checksum (tag 10) is validat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nding a Session(Logout MsgType=5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ach side sends a logout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8=FIX.4.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=0082^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5=5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9=DFIX20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6=GLTRADE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4=483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2=20010822-14:05:34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=176^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666880" y="30456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Normal Logout Processing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0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Firm Initiating Logou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81200" y="1522800"/>
            <a:ext cx="411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M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414240" y="4114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3640" y="3808800"/>
            <a:ext cx="39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05320" y="2286000"/>
            <a:ext cx="2971800" cy="12193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Wait a brief period of time (heartbeat interval) for other side to send logout – this is done in case other side needs to do resend processing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49920" y="4723200"/>
            <a:ext cx="333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Both sides disconnect by closing socke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51055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0880" y="1679040"/>
            <a:ext cx="1752840" cy="1159560"/>
          </a:xfrm>
          <a:prstGeom prst="borderCallout1">
            <a:avLst>
              <a:gd name="adj1" fmla="val 18750"/>
              <a:gd name="adj2" fmla="val -8333"/>
              <a:gd name="adj3" fmla="val 96550"/>
              <a:gd name="adj4" fmla="val 184041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t is considered bad form to close the connection prior to receiving the logout confirma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048120" y="2819520"/>
            <a:ext cx="3581280" cy="99036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End of FIX Session Lay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Slide Show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Protocol Overview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tandardized session layer using administrative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pplication layer with application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s use tag level encod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ag#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=“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&lt;SOH&gt;, ASCII 01 field separator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Structure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 FIX Messages are identified by a MsgType[Tag 35] cod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(Look up using Volume 6 or using FIXImate for the list of messages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 messages use a standard header and standard trail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s consists of required tags and optional tag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Customization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rading parties agree on specific usage and content of fields subject to the guidelines and definitions provided in the specifica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X provides for custom tags to support extensions or specific trading requiremen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Standard Header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eginString[8] identifies the version of FIX being used, for instance: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FIX 4.1”,  “FIX 4.2”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odyLength[9] identifies the length of the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sgType[35] Message typ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Identification of Trading Parties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nderCompID[49] - Identifies the sender of the message - counterparties agree on form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argetCompID[56] - Identifies the recipient of the message - counterparties agree on form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dditional header field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ubID Field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LocID Field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OnBehalfOf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DeliverTo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Routing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914400"/>
            <a:ext cx="4572000" cy="1828800"/>
          </a:xfrm>
          <a:prstGeom prst="rect">
            <a:avLst/>
          </a:prstGeom>
          <a:solidFill>
            <a:srgbClr val="ffcccc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Your Application Progra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rading System, Order Management Syste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1523880"/>
            <a:ext cx="4343400" cy="3962520"/>
          </a:xfrm>
          <a:prstGeom prst="rect">
            <a:avLst/>
          </a:prstGeom>
          <a:noFill/>
          <a:ln w="25560">
            <a:solidFill>
              <a:srgbClr val="9966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Anatomy of a FIX Engine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Journal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4267080"/>
            <a:ext cx="762120" cy="9860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DBMS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1676520"/>
            <a:ext cx="914400" cy="9144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Engin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2971800"/>
            <a:ext cx="914400" cy="9144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Encryp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2971800"/>
            <a:ext cx="914400" cy="9144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essag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tor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6" idx="1"/>
            <a:endCxn id="104" idx="0"/>
          </p:cNvCxnSpPr>
          <p:nvPr/>
        </p:nvCxnSpPr>
        <p:spPr>
          <a:xfrm flipV="1" rot="10800000">
            <a:off x="2704320" y="2133360"/>
            <a:ext cx="1029600" cy="83880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0" name=""/>
          <p:cNvCxnSpPr>
            <a:stCxn id="106" idx="2"/>
            <a:endCxn id="107" idx="0"/>
          </p:cNvCxnSpPr>
          <p:nvPr/>
        </p:nvCxnSpPr>
        <p:spPr>
          <a:xfrm flipV="1" rot="10800000">
            <a:off x="4190400" y="2590560"/>
            <a:ext cx="1080" cy="38160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1" name=""/>
          <p:cNvCxnSpPr>
            <a:stCxn id="106" idx="3"/>
            <a:endCxn id="108" idx="0"/>
          </p:cNvCxnSpPr>
          <p:nvPr/>
        </p:nvCxnSpPr>
        <p:spPr>
          <a:xfrm>
            <a:off x="4647960" y="2133720"/>
            <a:ext cx="1067400" cy="83880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5" idx="2"/>
          </p:cNvCxnSpPr>
          <p:nvPr/>
        </p:nvCxnSpPr>
        <p:spPr>
          <a:xfrm flipH="1" rot="16200000">
            <a:off x="2781000" y="3732840"/>
            <a:ext cx="951840" cy="110556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" name=""/>
          <p:cNvCxnSpPr>
            <a:stCxn id="108" idx="2"/>
            <a:endCxn id="105" idx="4"/>
          </p:cNvCxnSpPr>
          <p:nvPr/>
        </p:nvCxnSpPr>
        <p:spPr>
          <a:xfrm rot="5400000">
            <a:off x="4705200" y="3751920"/>
            <a:ext cx="875520" cy="114372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7086600" y="1447920"/>
            <a:ext cx="14479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FIX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Counterparty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48320" y="1600200"/>
            <a:ext cx="2438280" cy="457200"/>
          </a:xfrm>
          <a:prstGeom prst="leftRightArrow">
            <a:avLst>
              <a:gd name="adj1" fmla="val 50000"/>
              <a:gd name="adj2" fmla="val 106167"/>
            </a:avLst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CP/IP Conne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50480" y="5637960"/>
            <a:ext cx="7274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Diagram taken from Programmer’s Manual for the .FixAntenna Engine from B2B ITS Consulting Services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2"/>
              </a:rPr>
              <a:t>fix.btobits.com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4"/>
              </a:rPr>
              <a:t>www.btobits.com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2280" y="1752480"/>
            <a:ext cx="3124440" cy="1676520"/>
          </a:xfrm>
          <a:prstGeom prst="rect">
            <a:avLst/>
          </a:prstGeom>
          <a:solidFill>
            <a:srgbClr val="9933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2952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ustomer </a:t>
            </a: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(i.e. Investment Mgr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295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upplier </a:t>
            </a: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(i.e.Broker/Dealer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1752480"/>
            <a:ext cx="1295640" cy="307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FIX Syste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1752480"/>
            <a:ext cx="3124080" cy="1676520"/>
          </a:xfrm>
          <a:prstGeom prst="rect">
            <a:avLst/>
          </a:prstGeom>
          <a:solidFill>
            <a:srgbClr val="9933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05720" y="1752480"/>
            <a:ext cx="1295280" cy="307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FIX Syste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52280" y="2666880"/>
            <a:ext cx="8839440" cy="3400200"/>
            <a:chOff x="152280" y="2666880"/>
            <a:chExt cx="8839440" cy="3400200"/>
          </a:xfrm>
        </p:grpSpPr>
        <p:grpSp>
          <p:nvGrpSpPr>
            <p:cNvPr id="124" name=""/>
            <p:cNvGrpSpPr/>
            <p:nvPr/>
          </p:nvGrpSpPr>
          <p:grpSpPr>
            <a:xfrm>
              <a:off x="152280" y="2666880"/>
              <a:ext cx="3353040" cy="3247920"/>
              <a:chOff x="152280" y="2666880"/>
              <a:chExt cx="3353040" cy="3247920"/>
            </a:xfrm>
          </p:grpSpPr>
          <p:sp>
            <p:nvSpPr>
              <p:cNvPr id="125" name=""/>
              <p:cNvSpPr/>
              <p:nvPr/>
            </p:nvSpPr>
            <p:spPr>
              <a:xfrm>
                <a:off x="1219320" y="3352680"/>
                <a:ext cx="0" cy="3808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3520" y="2666880"/>
                <a:ext cx="1440" cy="106524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152280" y="3733560"/>
                <a:ext cx="3353040" cy="2181240"/>
                <a:chOff x="152280" y="3733560"/>
                <a:chExt cx="3353040" cy="21812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04920" y="3733560"/>
                  <a:ext cx="251460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Order Management System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04920" y="4495680"/>
                  <a:ext cx="2971800" cy="0"/>
                </a:xfrm>
                <a:prstGeom prst="line">
                  <a:avLst/>
                </a:prstGeom>
                <a:ln w="381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38080" y="4800240"/>
                  <a:ext cx="83844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752480" y="4800240"/>
                  <a:ext cx="83844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666880" y="4800240"/>
                  <a:ext cx="83844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523880" y="40384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95280" y="449568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133720" y="449568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048120" y="449568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52280" y="5181480"/>
                  <a:ext cx="1067040" cy="73332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 in Foreign Office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H="1">
                  <a:off x="533160" y="4495680"/>
                  <a:ext cx="152280" cy="68580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9" name=""/>
            <p:cNvGrpSpPr/>
            <p:nvPr/>
          </p:nvGrpSpPr>
          <p:grpSpPr>
            <a:xfrm>
              <a:off x="5791320" y="2666880"/>
              <a:ext cx="3200400" cy="3400200"/>
              <a:chOff x="5791320" y="2666880"/>
              <a:chExt cx="3200400" cy="3400200"/>
            </a:xfrm>
          </p:grpSpPr>
          <p:sp>
            <p:nvSpPr>
              <p:cNvPr id="140" name=""/>
              <p:cNvSpPr/>
              <p:nvPr/>
            </p:nvSpPr>
            <p:spPr>
              <a:xfrm>
                <a:off x="5943600" y="3733560"/>
                <a:ext cx="251460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Order Management System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943600" y="4495680"/>
                <a:ext cx="2971800" cy="0"/>
              </a:xfrm>
              <a:prstGeom prst="line">
                <a:avLst/>
              </a:prstGeom>
              <a:ln w="381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791320" y="4800240"/>
                <a:ext cx="83808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705720" y="4800240"/>
                <a:ext cx="83808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620120" y="4800240"/>
                <a:ext cx="83808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315200" y="4038480"/>
                <a:ext cx="0" cy="45720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248520" y="4495680"/>
                <a:ext cx="0" cy="30456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86600" y="4495680"/>
                <a:ext cx="0" cy="30456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001000" y="4495680"/>
                <a:ext cx="0" cy="30456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924680" y="5333760"/>
                <a:ext cx="1067040" cy="7333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 in Foreign Office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534520" y="4495680"/>
                <a:ext cx="228600" cy="8380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153280" y="2666880"/>
                <a:ext cx="0" cy="10666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858000" y="3352680"/>
                <a:ext cx="0" cy="3808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" name=""/>
          <p:cNvGrpSpPr/>
          <p:nvPr/>
        </p:nvGrpSpPr>
        <p:grpSpPr>
          <a:xfrm>
            <a:off x="228600" y="2133720"/>
            <a:ext cx="8610480" cy="1206000"/>
            <a:chOff x="228600" y="2133720"/>
            <a:chExt cx="8610480" cy="1206000"/>
          </a:xfrm>
        </p:grpSpPr>
        <p:grpSp>
          <p:nvGrpSpPr>
            <p:cNvPr id="154" name=""/>
            <p:cNvGrpSpPr/>
            <p:nvPr/>
          </p:nvGrpSpPr>
          <p:grpSpPr>
            <a:xfrm>
              <a:off x="228600" y="2133720"/>
              <a:ext cx="2971800" cy="1206000"/>
              <a:chOff x="228600" y="2133720"/>
              <a:chExt cx="2971800" cy="1206000"/>
            </a:xfrm>
          </p:grpSpPr>
          <p:sp>
            <p:nvSpPr>
              <p:cNvPr id="155" name=""/>
              <p:cNvSpPr/>
              <p:nvPr/>
            </p:nvSpPr>
            <p:spPr>
              <a:xfrm>
                <a:off x="1981080" y="2210040"/>
                <a:ext cx="121932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FIX Engine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28600" y="2133720"/>
                <a:ext cx="152388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85800" y="2819520"/>
                <a:ext cx="152388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1752120" y="2362320"/>
                <a:ext cx="228600" cy="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1979640" y="2513160"/>
                <a:ext cx="301680" cy="3016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5867280" y="2133720"/>
              <a:ext cx="2971800" cy="1206000"/>
              <a:chOff x="5867280" y="2133720"/>
              <a:chExt cx="2971800" cy="1206000"/>
            </a:xfrm>
          </p:grpSpPr>
          <p:sp>
            <p:nvSpPr>
              <p:cNvPr id="161" name=""/>
              <p:cNvSpPr/>
              <p:nvPr/>
            </p:nvSpPr>
            <p:spPr>
              <a:xfrm>
                <a:off x="5867280" y="2133720"/>
                <a:ext cx="121932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FIX Engine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315200" y="2133720"/>
                <a:ext cx="152388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324480" y="2819520"/>
                <a:ext cx="152424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086600" y="2286000"/>
                <a:ext cx="228600" cy="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629400" y="2438640"/>
                <a:ext cx="152280" cy="3808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3200400" y="2286000"/>
            <a:ext cx="2666880" cy="76320"/>
            <a:chOff x="3200400" y="2286000"/>
            <a:chExt cx="2666880" cy="76320"/>
          </a:xfrm>
        </p:grpSpPr>
        <p:sp>
          <p:nvSpPr>
            <p:cNvPr id="167" name=""/>
            <p:cNvSpPr/>
            <p:nvPr/>
          </p:nvSpPr>
          <p:spPr>
            <a:xfrm>
              <a:off x="3200400" y="2286000"/>
              <a:ext cx="1066680" cy="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190760" y="2286000"/>
              <a:ext cx="75960" cy="7632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1120" y="2362320"/>
              <a:ext cx="1676160" cy="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276720" y="198108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Wide Area Network Link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23623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TCP/IP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52680" y="266688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(TCP Socket opened by customer, persists during life of FIX session)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60195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FIX System Connectivity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5867280"/>
            <a:ext cx="35053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10000"/>
                </a:solidFill>
                <a:latin typeface="Arial"/>
              </a:rPr>
              <a:t>© FIX Protocol Limited - March, 2000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6T15:59:51Z</dcterms:created>
  <dc:creator>Jim Northey</dc:creator>
  <dc:description/>
  <dc:language>en-US</dc:language>
  <cp:lastModifiedBy>Jacob</cp:lastModifiedBy>
  <cp:lastPrinted>2001-09-25T15:24:55Z</cp:lastPrinted>
  <dcterms:modified xsi:type="dcterms:W3CDTF">2004-08-26T23:22:24Z</dcterms:modified>
  <cp:revision>108</cp:revision>
  <dc:subject/>
  <dc:title>General</dc:title>
</cp:coreProperties>
</file>