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3.wmf" ContentType="image/x-wmf"/>
  <Override PartName="/ppt/media/image2.png" ContentType="image/png"/>
  <Override PartName="/ppt/media/image4.jpeg" ContentType="image/jpeg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C5F63-A86E-4467-A773-6A2D693B27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06640" y="666720"/>
            <a:ext cx="4644720" cy="34844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05040" y="4373640"/>
            <a:ext cx="5047920" cy="407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s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06640" y="666720"/>
            <a:ext cx="4644720" cy="34844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05040" y="4373640"/>
            <a:ext cx="5047920" cy="407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s tentmaker spe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2B6D-55F6-499D-BABA-25212265F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D0FA-4E27-44FC-B961-4306D5B51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F051-26B7-4CA3-A590-62522A923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144B-88D4-4BEB-9556-A6628444F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A384-3D82-472C-9CB9-D4DA6CDF1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F482-9886-4768-9A75-574874CDB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986F-AC9F-4D66-B161-0DE73A1AE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4991-FFD5-434C-BFB3-601BB05E8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D4F6-A5F4-4B45-8E48-205E9D9EB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4720-F5BA-46B6-B764-53F5EA20C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6390-23FF-4B69-8F40-0B0C7C5EF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297D-F187-4A2E-A258-267AFC1C1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C45C1-AC23-49E2-93B5-55E9A077ED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mi.org/products/1040_g.htm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198108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entmakers are missions-committed Christians who work in secular jobs in order to reach another people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809880"/>
            <a:ext cx="7772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hey communicate the gospel by word and deed through excellence in work, caring relationships, and well chosen comments about God in the context of everyday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461280"/>
            <a:ext cx="40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Global Opportun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172200" y="64008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www.globalopps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533520"/>
            <a:ext cx="7238880" cy="7617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Square721 BT"/>
              </a:rPr>
              <a:t>Tentmaker defini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609480" y="53352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Professional preparation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1828800"/>
            <a:ext cx="4419720" cy="581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rive for excell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5334120"/>
            <a:ext cx="7772400" cy="581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earn to integrate work &amp; minis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38080" y="4327560"/>
            <a:ext cx="5791320" cy="581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ecome involved at h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38080" y="2833560"/>
            <a:ext cx="7772400" cy="10688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earn to network to be effective in your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640080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your way”,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Jonathan Lew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marketable skill, preferably with some years of experien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good relationship with God and – this is vital – a sustained prayer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Good biblical knowled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growing ability to witness for Christ with ministry skills in evangelism, teaching and discipleshi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concern for people who don’t know Jesus and a sense of call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Growing self-acceptance, love for others and a servant heart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33520" y="304920"/>
            <a:ext cx="8153280" cy="67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at Other Qualities Do We Need?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30456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biblical perspective on issues relevant to work, ethics and social mat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n excitement about other cultures, or at least an awareness that we need to understand other cul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flexible and adaptable approach to others who are diffe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Respect for other Christian workers with different roles and perceptions of minist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n ability to set objectives realistically, while being open to God’s unexpected demands and provi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Good physical and psychological heal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The ability to cope with culture stress, family stress, isolation and lonelines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8080" y="304920"/>
            <a:ext cx="7696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Integrate work &amp; ministry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762120" y="1523880"/>
          <a:ext cx="7772400" cy="4667400"/>
        </p:xfrm>
        <a:graphic>
          <a:graphicData uri="http://schemas.openxmlformats.org/drawingml/2006/table">
            <a:tbl>
              <a:tblPr/>
              <a:tblGrid>
                <a:gridCol w="1344600"/>
                <a:gridCol w="2762280"/>
                <a:gridCol w="388800"/>
                <a:gridCol w="3276720"/>
              </a:tblGrid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1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2362320" y="2057400"/>
            <a:ext cx="2361960" cy="7034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Minist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362320" y="3276720"/>
            <a:ext cx="2361960" cy="31802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Work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486400" y="2057400"/>
            <a:ext cx="2895480" cy="50000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Minist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&amp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Wor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62320" y="63388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Sepa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791320" y="63388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6400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g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609480" y="533520"/>
            <a:ext cx="80010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Myths about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1" name=""/>
          <p:cNvSpPr/>
          <p:nvPr/>
        </p:nvSpPr>
        <p:spPr>
          <a:xfrm>
            <a:off x="990720" y="190512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It’s an easy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90720" y="3481560"/>
            <a:ext cx="701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It’s for people who only want to commit themselves short te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269244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It’s only part-time missionary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548640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Any Christian working overseas is a                           tent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4697280"/>
            <a:ext cx="73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It doesn’t require rigorous tra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62120" y="533520"/>
            <a:ext cx="77724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Objection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7" name=""/>
          <p:cNvSpPr/>
          <p:nvPr/>
        </p:nvSpPr>
        <p:spPr>
          <a:xfrm>
            <a:off x="914400" y="2209680"/>
            <a:ext cx="7848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000" spc="-1" strike="noStrike">
                <a:solidFill>
                  <a:srgbClr val="ffffff"/>
                </a:solidFill>
                <a:latin typeface="Tahoma"/>
              </a:rPr>
              <a:t>Tentmaking is only an alternative for those who have been called to the mission field but lack faith in God for economic suppo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64008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762120" y="533520"/>
            <a:ext cx="77724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Objection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64008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080" y="2666880"/>
            <a:ext cx="7848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000" spc="-1" strike="noStrike">
                <a:solidFill>
                  <a:srgbClr val="ffffff"/>
                </a:solidFill>
                <a:latin typeface="Tahoma"/>
              </a:rPr>
              <a:t>Tentmakers are deceptive since they are ”missionaries in disguise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762120" y="533520"/>
            <a:ext cx="77724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Objection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3" name=""/>
          <p:cNvSpPr/>
          <p:nvPr/>
        </p:nvSpPr>
        <p:spPr>
          <a:xfrm>
            <a:off x="838080" y="2514600"/>
            <a:ext cx="784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ff"/>
                </a:solidFill>
                <a:latin typeface="Tahoma"/>
              </a:rPr>
              <a:t>It promotes individualism and disunity in the body of Christ, since they are able to move abroad without the blessing of their home assembl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64008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762120" y="533520"/>
            <a:ext cx="76197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Disadvantage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6" name=""/>
          <p:cNvSpPr/>
          <p:nvPr/>
        </p:nvSpPr>
        <p:spPr>
          <a:xfrm>
            <a:off x="1981080" y="205740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Limited religious freed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81080" y="38401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Relatively short st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81080" y="291780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Mobility restri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81080" y="47005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Time constra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6400800"/>
            <a:ext cx="47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81080" y="556272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Lack of accoun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762120" y="533520"/>
            <a:ext cx="76197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Advantage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2057400"/>
            <a:ext cx="69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More entry visas avail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3520" y="354960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Building natural bridges with natio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3520" y="28036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Greater acceptance by host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3520" y="4297320"/>
            <a:ext cx="71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Being models for national believ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3520" y="579132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Able to help national ”church” with fin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33520" y="504360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Job satisf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64612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0" y="838080"/>
            <a:ext cx="81532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he tentmaker today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4" name=""/>
          <p:cNvSpPr/>
          <p:nvPr/>
        </p:nvSpPr>
        <p:spPr>
          <a:xfrm>
            <a:off x="1523880" y="2362320"/>
            <a:ext cx="2210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2895480"/>
            <a:ext cx="4267080" cy="2775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Hamilton tentmaker survey shows us that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477120"/>
            <a:ext cx="541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Tentmakers speak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Don Hamil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827680" y="1981080"/>
            <a:ext cx="3011400" cy="47246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533520" y="198072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ack of understanding by parents and frie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olden opportunities for advancement on the present 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pparent needs in the home church that one could fi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nancial problems Health impair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09480" y="457200"/>
            <a:ext cx="80773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at Others Have Faced Before Go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ear of academic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eneral lure of the wor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eelings of inadequ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oubt of God’s wi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ndue concern about children’s welfare and schoo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isunderstanding of mission board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tionalized desire to be a homeland promoter sending others to the 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04920" y="5105520"/>
            <a:ext cx="883908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“…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I looked and there before me was a great multitude that no one could count,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from every nation, tribe, people and language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, standing before the throne…. They were wearing white robes….” 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(Revelation 7:9 </a:t>
            </a:r>
            <a:r>
              <a:rPr b="0" lang="en-CA" sz="1600" spc="-1" strike="noStrike">
                <a:solidFill>
                  <a:srgbClr val="fffcfa"/>
                </a:solidFill>
                <a:latin typeface="Tahoma"/>
              </a:rPr>
              <a:t>NIV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457200"/>
            <a:ext cx="8458200" cy="13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Be strong and courageous. Do not be terrified; do not be discouraged, for the Lord your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God will be with you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wherever you go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.” 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(Joshua 1:9 </a:t>
            </a:r>
            <a:r>
              <a:rPr b="0" lang="en-CA" sz="1600" spc="-1" strike="noStrike">
                <a:solidFill>
                  <a:srgbClr val="ffffff"/>
                </a:solidFill>
                <a:latin typeface="Tahoma"/>
              </a:rPr>
              <a:t>NIV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4920" y="1981080"/>
            <a:ext cx="8534160" cy="8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Therefore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go and make disciples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of all na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cc99"/>
                </a:solidFill>
                <a:latin typeface="Tahoma"/>
              </a:rPr>
              <a:t>[Greek for peoples]</a:t>
            </a:r>
            <a:r>
              <a:rPr b="0" lang="en-CA" sz="2400" spc="-1" strike="noStrike">
                <a:solidFill>
                  <a:srgbClr val="ffff00"/>
                </a:solidFill>
                <a:latin typeface="Tahoma"/>
              </a:rPr>
              <a:t>….”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(Matthew 28:19 </a:t>
            </a:r>
            <a:r>
              <a:rPr b="0" lang="en-CA" sz="1400" spc="-1" strike="noStrike">
                <a:solidFill>
                  <a:srgbClr val="fffcfa"/>
                </a:solidFill>
                <a:latin typeface="Tahoma"/>
              </a:rPr>
              <a:t>NIV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3124080"/>
            <a:ext cx="876312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And this gospel of the kingdom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will be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preached in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the whole world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as a testimony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to all nations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CA" sz="2400" spc="-1" strike="noStrike">
                <a:solidFill>
                  <a:srgbClr val="ffcc99"/>
                </a:solidFill>
                <a:latin typeface="Tahoma"/>
              </a:rPr>
              <a:t>[Greek for peoples]</a:t>
            </a:r>
            <a:r>
              <a:rPr b="0" lang="en-CA" sz="2800" spc="-1" strike="noStrike">
                <a:solidFill>
                  <a:srgbClr val="ffcc99"/>
                </a:solidFill>
                <a:latin typeface="Tahoma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, and then the end will come.”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                                          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(Matthew 24:14 </a:t>
            </a:r>
            <a:r>
              <a:rPr b="0" lang="en-CA" sz="1600" spc="-1" strike="noStrike">
                <a:solidFill>
                  <a:srgbClr val="fffcfa"/>
                </a:solidFill>
                <a:latin typeface="Tahoma"/>
              </a:rPr>
              <a:t>NIV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17680" y="1590840"/>
            <a:ext cx="1463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447920"/>
            <a:ext cx="8686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2.   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Main reason for going was to share the Gosp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457200"/>
            <a:ext cx="8382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1.   Led an evangelistic Bible study before go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2468520"/>
            <a:ext cx="8382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3.   </a:t>
            </a: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Believed God called them to be Tentmake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34732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4.   Had actively shared their faith at h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447984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5.   Had strong relationship with home chu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5486400"/>
            <a:ext cx="77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6.   Recruited others to be Tentma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646128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Tentmakers speak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Don Hamil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Four Religious Block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7240320" y="4191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629400" y="388620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943600" y="281952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76920" y="251460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724280" y="22096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76920" y="19810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952880" y="182880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95680" y="182880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67080" y="190512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14800" y="228600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81280" y="228600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657600" y="2743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191120" y="28195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67080" y="304812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87280" y="32767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963600" y="365760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33360" y="3184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30080" y="32767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2880" y="26668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77800" y="24382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53760" y="22096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9320" y="19652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47560" y="25750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42640" y="3184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42640" y="22701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61760" y="26510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09120" y="31082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04560" y="23464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51920" y="30322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99640" y="27273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23320" y="33368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51920" y="35654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01122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715000" y="7621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56+ cou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715000" y="236232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2/3 of the world’s peo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51055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97 % of those who have not he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15000" y="342900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82 % of the poorest of the p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571500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ess than 3% of  the mission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6461280"/>
            <a:ext cx="51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AD 2000 &amp; Operation 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5105160" cy="3960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715000" y="16002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3.9 billion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44956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ampant persecution of Christians ~ 200,000/y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553080" y="4419720"/>
            <a:ext cx="205740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22 / hr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1523880" y="1390680"/>
          <a:ext cx="6097680" cy="40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90680"/>
                    <a:ext cx="6097680" cy="40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914400" y="1676520"/>
          <a:ext cx="6629400" cy="3789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1676520"/>
                    <a:ext cx="6629400" cy="37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1905120" y="533412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Local chu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29000" y="53341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Traditional mi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10080" y="53341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Frontier mi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05120" y="2209680"/>
            <a:ext cx="99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95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86200" y="4114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4.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15000" y="4114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0.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219320" y="533520"/>
            <a:ext cx="66294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Church spending</a:t>
            </a:r>
            <a:endParaRPr b="1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762120" y="609480"/>
            <a:ext cx="76960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o can be a tentmaker?</a:t>
            </a:r>
            <a:endParaRPr b="0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" name=""/>
          <p:cNvSpPr/>
          <p:nvPr/>
        </p:nvSpPr>
        <p:spPr>
          <a:xfrm>
            <a:off x="1676520" y="1981080"/>
            <a:ext cx="297180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Stud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2971800"/>
            <a:ext cx="3657600" cy="1191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Professionals 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&amp; laym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09680" y="4495680"/>
            <a:ext cx="221004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Famil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324480" y="2209680"/>
            <a:ext cx="221004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Sing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867280" y="3505320"/>
            <a:ext cx="236232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Retire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62520" y="5486400"/>
            <a:ext cx="220968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Coup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rId3" action="ppaction://hlinksldjump"/>
          </p:cNvPr>
          <p:cNvSpPr/>
          <p:nvPr/>
        </p:nvSpPr>
        <p:spPr>
          <a:xfrm>
            <a:off x="1295280" y="2133720"/>
            <a:ext cx="400320" cy="3999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4" action="ppaction://hlinksldjump"/>
          </p:cNvPr>
          <p:cNvSpPr/>
          <p:nvPr/>
        </p:nvSpPr>
        <p:spPr>
          <a:xfrm>
            <a:off x="5638680" y="2362320"/>
            <a:ext cx="400320" cy="3999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5" action="ppaction://hlinksldjump"/>
          </p:cNvPr>
          <p:cNvSpPr/>
          <p:nvPr/>
        </p:nvSpPr>
        <p:spPr>
          <a:xfrm>
            <a:off x="5257800" y="3657600"/>
            <a:ext cx="399960" cy="3999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6" action="ppaction://hlinksldjump"/>
          </p:cNvPr>
          <p:cNvSpPr/>
          <p:nvPr/>
        </p:nvSpPr>
        <p:spPr>
          <a:xfrm>
            <a:off x="457200" y="3124080"/>
            <a:ext cx="399960" cy="4003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7" action="ppaction://hlinksldjump"/>
          </p:cNvPr>
          <p:cNvSpPr/>
          <p:nvPr/>
        </p:nvSpPr>
        <p:spPr>
          <a:xfrm>
            <a:off x="1600200" y="4572000"/>
            <a:ext cx="399960" cy="3999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8" action="ppaction://hlinksldjump"/>
          </p:cNvPr>
          <p:cNvSpPr/>
          <p:nvPr/>
        </p:nvSpPr>
        <p:spPr>
          <a:xfrm>
            <a:off x="3276720" y="5638680"/>
            <a:ext cx="399960" cy="4003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09480" y="53352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piritual preparation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182880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Develop home supp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19320" y="26668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arn the Bi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438280" y="3581280"/>
            <a:ext cx="40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arn to pr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29000" y="44197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arn evangelis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343400" y="541008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arn disciple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640080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your way”,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Jonathan Lew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8T14:45:44Z</dcterms:created>
  <dc:creator>Chan</dc:creator>
  <dc:description/>
  <dc:language>en-US</dc:language>
  <cp:lastModifiedBy>Chan</cp:lastModifiedBy>
  <dcterms:modified xsi:type="dcterms:W3CDTF">2003-06-28T17:27:21Z</dcterms:modified>
  <cp:revision>10</cp:revision>
  <dc:subject/>
  <dc:title>PowerPoint Presentation</dc:title>
</cp:coreProperties>
</file>