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0E59-DC00-4CEA-AA02-96EED87D4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tentmaker 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D005-5484-4F87-906C-D89BD7E4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DAFC-3A5E-4A12-AB41-8D6E8864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4424-316F-407E-855C-78AFB9C7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CDA9-F4CC-494B-8332-8E05004B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F927-3B6A-485A-83E6-474858D2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9281-1188-44CE-9644-DAF52A76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8965-8FF7-4261-A423-E9F5F95A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E8D7-61CA-438E-A3CF-1A70DE86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5E5A-F96A-4478-8A89-10CF3387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68DB-D3FC-44AF-9E24-0673D26F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22E9-112F-4CB4-AD05-2F38682C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9C0C-ED8C-4A77-A003-47DD610E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6267-EEE1-4BF6-9D8F-2BF0BA4AA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mi.org/products/1040_g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81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entmakers are missions-committed Christians who work in secular jobs in order to reach another peopl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8098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y communicate the gospel by word and deed through excellence in work, caring relationships, and well chosen comments about God in the context of everyda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612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Global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6400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www.globalopp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33520"/>
            <a:ext cx="72388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Square721 BT"/>
              </a:rPr>
              <a:t>Tentmaker defin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fession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828800"/>
            <a:ext cx="44197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ive for excel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334120"/>
            <a:ext cx="777240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integrate work &amp; min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327560"/>
            <a:ext cx="57913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come involved at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833560"/>
            <a:ext cx="7772400" cy="106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network to be effective in your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marketable skill, preferably with some years of experi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ood relationship with God and – this is vital – a sustained prayer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biblical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rowing ability to witness for Christ with ministry skills in evangelism, teaching and disciple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concern for people who don’t know Jesus and a sense of ca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rowing self-acceptance, love for others and a servant hear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304920"/>
            <a:ext cx="815328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 Qualities Do We Need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biblical perspective on issues relevant to work, ethics and social ma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excitement about other cultures, or at least an awareness that we need to understand other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flexible and adaptable approach to others who are diffe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Respect for other Christian workers with different roles and perceptions of minis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ability to set objectives realistically, while being open to God’s unexpected demands and pro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physical and psychological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The ability to cope with culture stress, family stress, isolation and lonelines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8080" y="304920"/>
            <a:ext cx="7696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Integrate work &amp; ministry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523880"/>
          <a:ext cx="7772400" cy="4667400"/>
        </p:xfrm>
        <a:graphic>
          <a:graphicData uri="http://schemas.openxmlformats.org/drawingml/2006/table">
            <a:tbl>
              <a:tblPr/>
              <a:tblGrid>
                <a:gridCol w="1344600"/>
                <a:gridCol w="2762280"/>
                <a:gridCol w="388800"/>
                <a:gridCol w="32767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2362320" y="2057400"/>
            <a:ext cx="2361960" cy="703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3276720"/>
            <a:ext cx="2361960" cy="3180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057400"/>
            <a:ext cx="2895480" cy="500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09480" y="533520"/>
            <a:ext cx="8001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yths about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9051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an easy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348156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for people who only want to commit themselves shor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6924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only part-time missionary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4864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ny Christian working overseas is a                           tent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6972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 doesn’t require rigorous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2209680"/>
            <a:ext cx="78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ing is only an alternative for those who have been called to the mission field but lack faith in God for economic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266688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ers are deceptive since they are ”missionaries in disguis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5146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ff"/>
                </a:solidFill>
                <a:latin typeface="Tahoma"/>
              </a:rPr>
              <a:t>It promotes individualism and disunity in the body of Christ, since they are able to move abroad without the blessing of their home assemb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is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imited religious freed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840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Relatively short st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29178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bility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700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Time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4008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55627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ack of accoun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20574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re entry visa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549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uilding natural bridges with nat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8036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Greater acceptance by hos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2973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eing models for national belie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791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ble to help national ”church” with fin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50436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Job satis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461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838080"/>
            <a:ext cx="8153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tentmaker today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2362320"/>
            <a:ext cx="2210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895480"/>
            <a:ext cx="4267080" cy="2775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Hamilton tentmaker survey shows us tha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7712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27680" y="1981080"/>
            <a:ext cx="301140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ck of understanding by parents and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lden opportunities for advancement on the present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arent needs in the home church that one could f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ancial problems Health impair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457200"/>
            <a:ext cx="8077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s Have Faced Before Go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ar of academic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eral lure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elings of in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ubt of God’s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ue concern about children’s welfare and sch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sunderstanding of mission boar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tionalized desire to be a homeland promoter sending others to th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5105520"/>
            <a:ext cx="8839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…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I looked and there before me was a great multitude that no one could count,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from every nation, tribe, people and languag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standing before the throne…. They were wearing white robes….” 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Revelation 7:9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57200"/>
            <a:ext cx="845820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Be strong and courageous. Do not be terrified; do not be discouraged, for the Lord your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d will be with you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herever you go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.”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Joshua 1:9 </a:t>
            </a: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981080"/>
            <a:ext cx="85341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Therefore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 and make disciple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of all 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400" spc="-1" strike="noStrike">
                <a:solidFill>
                  <a:srgbClr val="ffff00"/>
                </a:solidFill>
                <a:latin typeface="Tahoma"/>
              </a:rPr>
              <a:t>….”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8:19 </a:t>
            </a:r>
            <a:r>
              <a:rPr b="0" lang="en-CA" sz="14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124080"/>
            <a:ext cx="87631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And this gospel of the kingdom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ill b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preached in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he whole world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as a testimony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o all nation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8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and then the end will come.”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                                          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4:14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7680" y="1590840"/>
            <a:ext cx="146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44792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2.  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Main reason for going was to share the Gosp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5720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.   Led an evangelistic Bible study before go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468520"/>
            <a:ext cx="8382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.  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Believed God called them to be Tentmak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473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  Had actively shared their faith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47984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.   Had strong relationship with hom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486400"/>
            <a:ext cx="77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6.   Recruited others to be Tentma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461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Four Religious Block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40320" y="4191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8862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2819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2514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2209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981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8288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828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19051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22860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286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2819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30481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72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3600" y="3657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3336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0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2880" y="2666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7800" y="243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3760" y="2209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9320" y="1965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7560" y="2575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264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42640" y="2270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61760" y="2651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9120" y="3108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04560" y="2346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51920" y="3032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9640" y="2727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3320" y="3336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51920" y="3565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0112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15000" y="762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6+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23623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/3 of the world’s peo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105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97 % of those who have not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429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82 % of the poorest of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7150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ss than 3% of  the miss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4612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D 2000 &amp; Operation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105160" cy="396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15000" y="1600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9 billion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495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mpant persecution of Christians ~ 200,000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419720"/>
            <a:ext cx="205740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22 / h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914400" y="1676520"/>
          <a:ext cx="6629400" cy="378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676520"/>
                    <a:ext cx="662940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9051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cal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53341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raditional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Frontier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209680"/>
            <a:ext cx="99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4114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19320" y="53352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urch spending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762120" y="609480"/>
            <a:ext cx="7696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o can be a tentmaker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1981080"/>
            <a:ext cx="297180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971800"/>
            <a:ext cx="365760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Professionals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&amp; lay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4495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Fami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209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i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505320"/>
            <a:ext cx="23623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Reti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486400"/>
            <a:ext cx="22096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Cou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1295280" y="21337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5638680" y="23623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5" action="ppaction://hlinksldjump"/>
          </p:cNvPr>
          <p:cNvSpPr/>
          <p:nvPr/>
        </p:nvSpPr>
        <p:spPr>
          <a:xfrm>
            <a:off x="5257800" y="36576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6" action="ppaction://hlinksldjump"/>
          </p:cNvPr>
          <p:cNvSpPr/>
          <p:nvPr/>
        </p:nvSpPr>
        <p:spPr>
          <a:xfrm>
            <a:off x="457200" y="31240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7" action="ppaction://hlinksldjump"/>
          </p:cNvPr>
          <p:cNvSpPr/>
          <p:nvPr/>
        </p:nvSpPr>
        <p:spPr>
          <a:xfrm>
            <a:off x="1600200" y="45720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8" action="ppaction://hlinksldjump"/>
          </p:cNvPr>
          <p:cNvSpPr/>
          <p:nvPr/>
        </p:nvSpPr>
        <p:spPr>
          <a:xfrm>
            <a:off x="3276720" y="56386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iritu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828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evelop home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2666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he B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5812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o pr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evange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5410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disciple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14:45:44Z</dcterms:created>
  <dc:creator>Chan</dc:creator>
  <dc:description/>
  <dc:language>en-US</dc:language>
  <cp:lastModifiedBy>Chan</cp:lastModifiedBy>
  <dcterms:modified xsi:type="dcterms:W3CDTF">2003-06-28T17:27:21Z</dcterms:modified>
  <cp:revision>10</cp:revision>
  <dc:subject/>
  <dc:title>PowerPoint Presentation</dc:title>
</cp:coreProperties>
</file>